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A66-54C2-43B9-B4F7-AC21CB3C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0E4-E601-4427-9B95-6620576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DBD-6C45-49FD-97BC-93623A4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7E5-859F-49ED-91CD-941AECAA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301-0152-4133-B68B-0C32274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E46-00D3-46F6-9923-3B5F7B10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C93-2A0A-4F98-8138-C9193FAC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604-BDD7-407A-AF7E-329D7CB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55C-B086-4357-8149-E765701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76F-4AC8-489F-8766-CBAAE96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437-DF7C-4065-96A1-ADA81F2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914-6D39-4A42-AE47-DE8F82E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BA38-DE34-47B8-8FF5-7643245C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0" y="2179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es much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mucho apetit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muchos líquidos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Guardas cama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muchacho enfer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 (1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33520" y="2286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2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3-05-02T12:34:03Z</dcterms:modified>
  <cp:revision>19</cp:revision>
  <dc:subject/>
  <dc:title>Me llamo ________ Clase 7 im La fecha es el 13 de mayo del 2011</dc:title>
</cp:coreProperties>
</file>